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553E-6CD4-4915-8766-CCC84F20B9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1150F-1E3A-4C25-A02A-D3587FD2E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369EB-4557-4D27-A77D-9BAAA2628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D051B-E982-4888-B8C3-6D14C444D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B31FD-B342-4751-AFE0-BB8558475F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E94BC-D073-4F53-A065-39F148544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6966A-2FD6-4DE8-AE42-8675E8AB70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59E2A-907A-4A6A-8F98-4C0BE058D9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88E85-CD95-4BE1-85EC-9B5FDB295C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B54F8-D1E9-4B0D-AE2F-3A5067D7C9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44EEB-BC9D-4DA4-A269-631861ED77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F31A-1F51-4687-982B-EFAAD36493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F03E2-BEBB-48CC-9098-1225CA8C0F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2F6BF-81D0-4373-A5AE-4A58B4D2D4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0328A-FFDE-4449-97A8-9E7942B54F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84321-D66E-4095-B72D-B1DE2FFAA4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1D325-1C32-4191-B599-EA3F62A426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A1C5D-55B8-4485-B819-0D43DE023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2DA7A-9790-427F-B421-8E9E2FA732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CBD08-6107-40C5-B245-9F8D9429B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F9931-F0ED-407D-8820-7CE45937F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9FF81-6CC0-425F-81D2-BF6F88EBA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C7F0D-D661-4C30-AEF1-96873D768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8510-E802-4328-942D-F359266599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EE154D8-A663-497B-AEFE-29D0B2BBFF37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E794828-5520-4318-A347-2FFA16B8467F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228840" y="115920"/>
            <a:ext cx="55818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843280" y="45072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15A8101E-6F9A-4491-8047-65B9D6DFDEA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3859A75-2068-4AF2-9A82-E549FBEBD7D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thresholds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928E-716D-4012-9812-577C188F902E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You can use small 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ou can do factor analysis with small sample sizes (20, 30) provided the factor loadings are high (0.7, 0.8). Hair et al. (1998) give threshold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threshol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di and Williams, 2010 suggest robustness tests for small N e.g. jackknife or bootstrap C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21-09-29T12:08:42Z</dcterms:modified>
  <cp:revision>341</cp:revision>
  <dc:subject/>
  <dc:title>No Slide Title</dc:title>
</cp:coreProperties>
</file>